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CC5-FF6A-49C8-820B-15812DD5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BD3-9458-43EA-A959-ECC5C806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B01-A458-4D8E-8FF9-479680BD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A49-3E48-4FDF-B7E6-262C4D55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C53-D0A3-499A-8DB6-7A2C3733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1D0-DD37-4234-B3C6-A15F5064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C4F-6E7C-4840-B47E-00928AD7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E79-F06C-43A7-92C2-5B618553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40F-E131-401D-93DE-BA4D55E6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EAB-143E-4299-A8AE-6E4D14A9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8DA-54DF-4122-A08E-8C7300AD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B9A-BD46-436C-9C44-DF44C870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ECF7-AFB2-4A5E-AC4F-18DBDFD2C95E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6 CuadroTexto"/>
          <p:cNvSpPr/>
          <p:nvPr/>
        </p:nvSpPr>
        <p:spPr>
          <a:xfrm>
            <a:off x="857160" y="1500120"/>
            <a:ext cx="692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6600" spc="-1" strike="noStrike">
                <a:solidFill>
                  <a:srgbClr val="000000"/>
                </a:solidFill>
                <a:latin typeface="Baskerville Old Face"/>
              </a:rPr>
              <a:t>HISTORIA  DE  LA  FOTOGRAF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6786720" y="4494240"/>
            <a:ext cx="22143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2 CuadroTexto"/>
          <p:cNvSpPr/>
          <p:nvPr/>
        </p:nvSpPr>
        <p:spPr>
          <a:xfrm>
            <a:off x="214200" y="1285920"/>
            <a:ext cx="77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Baskerville Old Face"/>
              </a:rPr>
              <a:t>1861 </a:t>
            </a: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La fotografía en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 CuadroTexto"/>
          <p:cNvSpPr/>
          <p:nvPr/>
        </p:nvSpPr>
        <p:spPr>
          <a:xfrm>
            <a:off x="428760" y="514368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Daguerrotipo experimental de 1837. Bodegón, por  Dagu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4143240" y="1928880"/>
            <a:ext cx="4572000" cy="3741840"/>
          </a:xfrm>
          <a:prstGeom prst="rect">
            <a:avLst/>
          </a:prstGeom>
          <a:ln w="0">
            <a:noFill/>
          </a:ln>
        </p:spPr>
      </p:pic>
      <p:sp>
        <p:nvSpPr>
          <p:cNvPr id="79" name="7 CuadroTexto"/>
          <p:cNvSpPr/>
          <p:nvPr/>
        </p:nvSpPr>
        <p:spPr>
          <a:xfrm>
            <a:off x="857160" y="2571840"/>
            <a:ext cx="264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Primera fotografía en color, tomada por James Clerk Maxwell, en 1861, realizando tres fotografías sucesivas con filtros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2143080" y="2214720"/>
            <a:ext cx="5572080" cy="3543120"/>
          </a:xfrm>
          <a:prstGeom prst="rect">
            <a:avLst/>
          </a:prstGeom>
          <a:ln w="0">
            <a:noFill/>
          </a:ln>
        </p:spPr>
      </p:pic>
      <p:sp>
        <p:nvSpPr>
          <p:cNvPr id="82" name="8 CuadroTexto"/>
          <p:cNvSpPr/>
          <p:nvPr/>
        </p:nvSpPr>
        <p:spPr>
          <a:xfrm>
            <a:off x="214200" y="1285920"/>
            <a:ext cx="77868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Baskerville Old Face"/>
              </a:rPr>
              <a:t>1880 </a:t>
            </a: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Fotografía aérea de Colonia, destruida por bombardeos aliados durante la Segunda Guerra Mund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8 CuadroTexto"/>
          <p:cNvSpPr/>
          <p:nvPr/>
        </p:nvSpPr>
        <p:spPr>
          <a:xfrm>
            <a:off x="214200" y="1285920"/>
            <a:ext cx="77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Baskerville Old Face"/>
              </a:rPr>
              <a:t>1990 </a:t>
            </a: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La aparición de la primera cámara dig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42960" y="2286000"/>
            <a:ext cx="5200560" cy="3071880"/>
          </a:xfrm>
          <a:prstGeom prst="rect">
            <a:avLst/>
          </a:prstGeom>
          <a:ln w="0">
            <a:noFill/>
          </a:ln>
        </p:spPr>
      </p:pic>
      <p:sp>
        <p:nvSpPr>
          <p:cNvPr id="86" name="6 CuadroTexto"/>
          <p:cNvSpPr/>
          <p:nvPr/>
        </p:nvSpPr>
        <p:spPr>
          <a:xfrm>
            <a:off x="6000840" y="2286000"/>
            <a:ext cx="2500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Una cámara digital SiPix junto a una caja de fósforos para mostrar la esc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icture 2"/>
          <p:cNvSpPr/>
          <p:nvPr/>
        </p:nvSpPr>
        <p:spPr>
          <a:xfrm>
            <a:off x="428760" y="1357200"/>
            <a:ext cx="221436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2857680" y="3429000"/>
            <a:ext cx="557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Baskerville Old Face"/>
              </a:rPr>
              <a:t>Fue quien empezó a dar las bases a la fotografía, inventando una máquina capaz de copiar la realidad, la cámara oscura, en los finales del siglo XV y principios del XV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5 CuadroTexto"/>
          <p:cNvSpPr/>
          <p:nvPr/>
        </p:nvSpPr>
        <p:spPr>
          <a:xfrm>
            <a:off x="285840" y="48578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Baskerville Old Face"/>
              </a:rPr>
              <a:t>Leonardo Da Vinc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357120" y="1643040"/>
            <a:ext cx="2303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2 CuadroTexto"/>
          <p:cNvSpPr/>
          <p:nvPr/>
        </p:nvSpPr>
        <p:spPr>
          <a:xfrm>
            <a:off x="4500720" y="1785960"/>
            <a:ext cx="3929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Baskerville Old Face"/>
              </a:rPr>
              <a:t>En el  Renacimiento  también se hizo otra aproximación a la fotografía, se invento un espejo para enderezar la imagen y colocarla sobre un plano horizontal, la cámara lúcida. Esta permite ver al modelo y calcarlo a tamaño natural para que se pueda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n 34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3500280" cy="4592880"/>
          </a:xfrm>
          <a:prstGeom prst="rect">
            <a:avLst/>
          </a:prstGeom>
          <a:ln w="0">
            <a:noFill/>
          </a:ln>
        </p:spPr>
      </p:pic>
      <p:sp>
        <p:nvSpPr>
          <p:cNvPr id="52" name="4 CuadroTexto"/>
          <p:cNvSpPr/>
          <p:nvPr/>
        </p:nvSpPr>
        <p:spPr>
          <a:xfrm>
            <a:off x="285840" y="5429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Diseño de una Cámara  Oscura del siglo XVI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rcRect l="0" t="0" r="9525" b="5721"/>
          <a:stretch/>
        </p:blipFill>
        <p:spPr>
          <a:xfrm>
            <a:off x="3000240" y="1571760"/>
            <a:ext cx="3071880" cy="412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6286680" y="1285920"/>
            <a:ext cx="2295360" cy="2000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4"/>
          <a:stretch/>
        </p:blipFill>
        <p:spPr>
          <a:xfrm>
            <a:off x="285840" y="1357200"/>
            <a:ext cx="2349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785880" y="1214280"/>
            <a:ext cx="7000920" cy="4565880"/>
          </a:xfrm>
          <a:prstGeom prst="rect">
            <a:avLst/>
          </a:prstGeom>
          <a:ln w="0">
            <a:noFill/>
          </a:ln>
        </p:spPr>
      </p:pic>
      <p:sp>
        <p:nvSpPr>
          <p:cNvPr id="59" name="5 CuadroTexto"/>
          <p:cNvSpPr/>
          <p:nvPr/>
        </p:nvSpPr>
        <p:spPr>
          <a:xfrm>
            <a:off x="1285920" y="57862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Baskerville Old Face"/>
              </a:rPr>
              <a:t>París </a:t>
            </a:r>
            <a:r>
              <a:rPr b="1" i="1" lang="es-CO" sz="1800" spc="-1" strike="noStrike">
                <a:solidFill>
                  <a:srgbClr val="ffffff"/>
                </a:solidFill>
                <a:latin typeface="Baskerville Old Face"/>
              </a:rPr>
              <a:t>Boulevard du Temple</a:t>
            </a:r>
            <a:r>
              <a:rPr b="1" lang="es-CO" sz="1800" spc="-1" strike="noStrike">
                <a:solidFill>
                  <a:srgbClr val="ffffff"/>
                </a:solidFill>
                <a:latin typeface="Baskerville Old Face"/>
              </a:rPr>
              <a:t>, en abril o mayo de 1838, por Daguer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2 CuadroTexto"/>
          <p:cNvSpPr/>
          <p:nvPr/>
        </p:nvSpPr>
        <p:spPr>
          <a:xfrm>
            <a:off x="642960" y="1571760"/>
            <a:ext cx="77868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Baskerville Old Face"/>
              </a:rPr>
              <a:t>1520</a:t>
            </a: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La primera publicación sobre la Cámara  Oscura es la de Cesare casariano, un alumno de Leonardo durante el Renacimi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7900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2 CuadroTexto"/>
          <p:cNvSpPr/>
          <p:nvPr/>
        </p:nvSpPr>
        <p:spPr>
          <a:xfrm>
            <a:off x="571680" y="1428840"/>
            <a:ext cx="778644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Baskerville Old Face"/>
              </a:rPr>
              <a:t>1600 </a:t>
            </a: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durante el Siglo XVll, la cámara que hasta ese momento era una habitación como tal se transforma en un instrumento portátil de madera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5143680" y="2500200"/>
            <a:ext cx="3571560" cy="3400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571680" y="2714760"/>
            <a:ext cx="44290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2 CuadroTexto"/>
          <p:cNvSpPr/>
          <p:nvPr/>
        </p:nvSpPr>
        <p:spPr>
          <a:xfrm>
            <a:off x="571680" y="1428840"/>
            <a:ext cx="778644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Baskerville Old Face"/>
              </a:rPr>
              <a:t>1826</a:t>
            </a: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 Vista desde la ventana en Le Gras. Debido a las 8 horas de exposición, la luz del sol ilumina los edificios de ambos l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857240" y="2500200"/>
            <a:ext cx="49053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2 CuadroTexto"/>
          <p:cNvSpPr/>
          <p:nvPr/>
        </p:nvSpPr>
        <p:spPr>
          <a:xfrm>
            <a:off x="571680" y="14288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Baskerville Old Face"/>
              </a:rPr>
              <a:t>1855 </a:t>
            </a: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Innovaciones técnicas y cientí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00040" y="2214720"/>
            <a:ext cx="4857840" cy="351144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428760" y="514368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Daguerrotipo experimental de 1837. Bodegón, por  Dagu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5376960" y="2714760"/>
            <a:ext cx="3543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4:03:00Z</dcterms:created>
  <dc:creator>ICO8931B</dc:creator>
  <dc:description/>
  <dc:language>en-US</dc:language>
  <cp:lastModifiedBy>ICO8931B</cp:lastModifiedBy>
  <dcterms:modified xsi:type="dcterms:W3CDTF">2011-10-03T21:00:21Z</dcterms:modified>
  <cp:revision>46</cp:revision>
  <dc:subject/>
  <dc:title>Diapositiva 1</dc:title>
</cp:coreProperties>
</file>